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BA0C-80A3-4A2C-85FA-D30679608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945E-CFB0-4A0D-BE99-FFE2D355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9F1C-BC17-484F-A2DA-5507D24E0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E5C0-64DF-4F18-89AF-558AC88EF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8612-2C6A-4E2C-B229-9F4A0B559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2A60-E74F-428C-9471-3A07ED53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EC23-7D40-474B-A9DC-15F4A92B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05BE-9A41-42C9-8B6C-69D8222E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2E31-7EC9-490D-B662-940DC713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6C05-DB46-405C-A1FE-EF666DCE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5E19-5CED-4812-85A5-9D9B91D0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22EB-212A-42FC-A6F7-195DFE9F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891A-C8AE-43A4-895F-4FC30458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9638-9451-493F-9AC3-AE7F6D0F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9268-B563-4C23-8519-D3D2B03B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208C-8CD6-485C-8423-274A9A2DB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5213-F25F-4C3F-90E8-CFE6E978B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A1EB-31C4-482A-AD60-74BDD1BF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9571-96B9-4D42-B1DF-A16B3A0A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8919-FB4D-4620-95B5-9758E409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96D3-C95A-43CE-ADFA-58828D3F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2B6B-210B-497B-B91C-E670FC94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8901-70A2-4904-BF32-8C89C97F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C1FD-10C1-47F2-8953-EC6394C7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C8EB-ADC0-4CAE-B803-CE72ED147B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96C8-23AD-426F-9456-F0358EB7FF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Jim Crow and the 1930s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To Kill a Mockingbir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Great Depres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504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419720" y="2286000"/>
            <a:ext cx="41148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arper Le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62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perienced Great Depression as a child in A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nly novel is </a:t>
            </a:r>
            <a:r>
              <a:rPr b="0" i="1" lang="en-US" sz="3100" spc="-1" strike="noStrike">
                <a:solidFill>
                  <a:srgbClr val="ffffff"/>
                </a:solidFill>
                <a:latin typeface="Arial"/>
              </a:rPr>
              <a:t>To Kill a Mokingbir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40957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 Kill a Mockingbir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4647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akes place in Northern Alabama during 1930s in the heart of the Great Depress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410080" y="2819520"/>
            <a:ext cx="31813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flec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magine if you were alive during this time. What would you have done? How would you have reacted? How would you have felt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5 complete sentences on the back of your notes she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715000" y="457200"/>
            <a:ext cx="2766960" cy="3124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5658120" cy="2571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029200" y="3581280"/>
            <a:ext cx="3429000" cy="2427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09480" y="3048120"/>
            <a:ext cx="4448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im Cro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62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parate but not equa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aws enforcing racial segregation in education, housing, transportation, and public faciliti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im Cro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4114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enied voting rights by grandfather clauses, poll taxes, white primaries, and literacy tes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KKK was 5 million stro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3740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im Cro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46479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ace rio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ss lynching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stly started by whites by attacking bl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181480" y="2286000"/>
            <a:ext cx="351468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less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omer A. Plessy was 1/8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lack and 7/8 white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at in white only railroad and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as arrest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lessy case showed discrimination against blacks is acceptab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presented the legitimization of two societies: one white and advantaged, one black and disadvantag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477120" y="533520"/>
            <a:ext cx="2233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800600" y="1219320"/>
            <a:ext cx="3819600" cy="4762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4270320" cy="4572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438280" y="3657600"/>
            <a:ext cx="31626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eat Depres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3886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929 stock market crash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6 million Americans were unemploy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armers hit hardest because of drough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1529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eat Depres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572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nemployment rate for blacks was over 50%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Jobs were given to the whi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105520" y="2362320"/>
            <a:ext cx="35431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17:14:58Z</dcterms:created>
  <dc:creator>teacher</dc:creator>
  <dc:description/>
  <dc:language>en-US</dc:language>
  <cp:lastModifiedBy>teacher</cp:lastModifiedBy>
  <dcterms:modified xsi:type="dcterms:W3CDTF">2012-11-08T14:14:44Z</dcterms:modified>
  <cp:revision>25</cp:revision>
  <dc:subject/>
  <dc:title>Jim Crow and the 1930s</dc:title>
</cp:coreProperties>
</file>